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53B755-8B02-49F5-9921-F0CD33AC08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FCFCD3-74AC-402A-9A21-4E7E62D8C2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ABAAD1-77AC-4B7C-8FEA-DCA5C3A68A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745984-64D2-41B6-AB4B-53D02367CD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9B9F5D-1BD4-43D1-A323-475D9BFEF1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E924B5-FB43-4E51-BA8B-68B51E5E43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67F182-5586-4720-9ED0-651657A766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365B4F-7A6A-49E6-B0D6-EC9E6B8221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828BC4-A340-493E-B6F6-45BFB64FD0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5F6A9D-200D-40C9-8A30-96A390F145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C568F1-2B1E-4A7C-98D3-A045153164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42A785-17E1-414C-8622-19D5848B47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C9F90E-B145-4429-BE9F-BBA2A4829E7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alysis Protocols</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lectrophysiolog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762120" y="228600"/>
            <a:ext cx="7391160" cy="1697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overall aim of this tutorial is to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amine the spectra of the spikes and LFPs and of the correlation between the spikes and LFPs and create appropriate hypotheses. (e.g. the spike and/or LFP spectra in a particular band of frequencies are significantly different between a pair of directions.) Test these hypotheses and draw appropriate conclusions. You also want to compare the tuning of the spike rate with that of the LFP. At the minimum, </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0" name=""/>
          <p:cNvSpPr/>
          <p:nvPr/>
        </p:nvSpPr>
        <p:spPr>
          <a:xfrm>
            <a:off x="762120" y="1676520"/>
            <a:ext cx="7711920" cy="4143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Compute the spike rates (as a function of time) for each direction using Locfit. Then plot directional tuning curves based on the mean spike rate in the delay period (This should be motivated by observing the behavior of the spike rate as a function of time).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Compute the average LFP spectrograms for trials to each direction – using the routines mtspecgramc.m and/or mtspecgramtrigc.m.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You will observe that there is gamma band activity in the LFP spectra during the delay period and that this activity shows a direction dependence. Based on this observation, plot the gamma band LFP power during the delay period as a function of direction – this is the LFP tuning curv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 Test the hypothesis that the gamma band LFP power differs most significantly for a pair of directions – these will be the preferred and anti-preferred directions for this recording – you could use a t-tes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 Finally, examine spike spectra and spike-field coherence for this pair of directions (or all eight directions) see whether there is similar directional tuning for these quantities. Note that in each case, you want to put error bars for comparison between direction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
          <p:cNvSpPr/>
          <p:nvPr/>
        </p:nvSpPr>
        <p:spPr>
          <a:xfrm>
            <a:off x="533520" y="1219320"/>
            <a:ext cx="8076960" cy="38667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recordings have already been conditioned (i.e. broad-band recordings were separated in LFPs </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d multi-unit traces, spikes were extracted, 60 Hz noise was removed, and recordings were </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arranged into groups corresponding to the eight directions. The data is in electrophys_tut.mat.</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is file is loaded into matlab, you should have the following variables:</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lfp – 4 channels of continuous LFP recordings (from a tetrode)</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sp – struct array of spike times for two neurons</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ialtimes – start times of the trial</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xon – fixation light comes on times</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xacq – fixation acquired times</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rgon – target light comes on times</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rgoff – target light goes off times – beginning of delay</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xoff – fixation off times</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ccade – saccade times</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rget- target directions</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s-sampling frequency for the LFP</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all times are in seconds from the start of the recording session</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2" name=""/>
          <p:cNvSpPr/>
          <p:nvPr/>
        </p:nvSpPr>
        <p:spPr>
          <a:xfrm>
            <a:off x="5486400" y="2514600"/>
            <a:ext cx="3273480" cy="36270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t;&gt; load LIPdata.ma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t;&gt; who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Name             Size                   Bytes  Clas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Fs               1x1                        8  double array</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dlfp        755171x4                 24165472  double array</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dsp              1x2                   163400  struct array</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fixacq          80x1                      640  double array</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fixoff          80x1                      640  double array</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fixon           80x1                      640  double array</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accade         80x1                      640  double array</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argets         80x1                      640  double array</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argoff         80x1                      640  double array</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argon          80x1                      640  double array</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rialtimes      80x1                      640  double array</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rand total is 3041729 elements using 24334000 byte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t;&gt;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304920" y="1143000"/>
            <a:ext cx="8686800" cy="4191120"/>
          </a:xfrm>
          <a:prstGeom prst="rect">
            <a:avLst/>
          </a:prstGeom>
          <a:ln w="0">
            <a:noFill/>
          </a:ln>
        </p:spPr>
      </p:pic>
      <p:sp>
        <p:nvSpPr>
          <p:cNvPr id="84" name=""/>
          <p:cNvSpPr/>
          <p:nvPr/>
        </p:nvSpPr>
        <p:spPr>
          <a:xfrm>
            <a:off x="526680" y="493560"/>
            <a:ext cx="3884040" cy="36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somewhat more complete protocol</a:t>
            </a:r>
            <a:endParaRPr b="0" lang="en-US" sz="1800" spc="-1" strike="noStrike">
              <a:solidFill>
                <a:srgbClr val="000000"/>
              </a:solidFill>
              <a:latin typeface="Arial"/>
            </a:endParaRPr>
          </a:p>
        </p:txBody>
      </p:sp>
      <p:sp>
        <p:nvSpPr>
          <p:cNvPr id="85" name=""/>
          <p:cNvSpPr/>
          <p:nvPr/>
        </p:nvSpPr>
        <p:spPr>
          <a:xfrm>
            <a:off x="523080" y="5827680"/>
            <a:ext cx="8136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at these tasks essentially describe the contents of Pesaran et al (200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p:nvPr/>
        </p:nvSpPr>
        <p:spPr>
          <a:xfrm>
            <a:off x="824760" y="417600"/>
            <a:ext cx="1105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hronux</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87" name=""/>
          <p:cNvSpPr/>
          <p:nvPr/>
        </p:nvSpPr>
        <p:spPr>
          <a:xfrm>
            <a:off x="762120" y="1523880"/>
            <a:ext cx="7543800" cy="3528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ronux offers several routines for computing spectra and coherences for both point processes and continuous processes. In addition, it also offers several general purpose routines that we have found useful such as a routine for extracting specified segments from data, or binning spike time data with bins of a specified size. Since the data can be continuous valued, point process times, or point processes that are binned, methods that apply to all these data types are given in routines whose names end with ‘c’ for continuous, ‘pb’ for binned point processes, and ‘pt’ for point process times. Thus, mtspectrumc computes the spectrum of continuous data, mtspectrumpb, and mtspectrumpt compute spectra for binned point processes and point process times. More on these later.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674280" y="798480"/>
            <a:ext cx="73634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rst : Segment the data in analysis blocks centered on the onset of th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elay period. </a:t>
            </a:r>
            <a:endParaRPr b="0" lang="en-US" sz="1800" spc="-1" strike="noStrike">
              <a:solidFill>
                <a:srgbClr val="000000"/>
              </a:solidFill>
              <a:latin typeface="Arial"/>
            </a:endParaRPr>
          </a:p>
        </p:txBody>
      </p:sp>
      <p:sp>
        <p:nvSpPr>
          <p:cNvPr id="89" name=""/>
          <p:cNvSpPr/>
          <p:nvPr/>
        </p:nvSpPr>
        <p:spPr>
          <a:xfrm>
            <a:off x="2359440" y="2286000"/>
            <a:ext cx="4458600" cy="26492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gt; E=targoff; win=[2 2]; datasp=createdatamatpt(dsp(1),E,wi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gt; whos datasp</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Name       Size                   Bytes  Clas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atasp       1x80                   32984  struct array</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nd total is 3595 elements using 32984 byt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gt; datalfp=createdatamatc(dlfp(:,1),E,Fs,wi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gt; whos datalfp</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Name          Size                   Bytes  Clas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atalfp    4000x80                 2560000  double array</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nd total is 320000 elements using 2560000 byte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914400" y="685800"/>
            <a:ext cx="7315200" cy="13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t us move on to spectral computations.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sic information about Chronux can be obtained by typing “help chronux”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command prompt. More information is found in the documentation. We start by creating a variable params that keeps parameters commonly used by chronux in a single structure. </a:t>
            </a:r>
            <a:endParaRPr b="0" lang="en-US" sz="1400" spc="-1" strike="noStrike">
              <a:solidFill>
                <a:srgbClr val="000000"/>
              </a:solidFill>
              <a:latin typeface="Arial"/>
            </a:endParaRPr>
          </a:p>
        </p:txBody>
      </p:sp>
      <p:sp>
        <p:nvSpPr>
          <p:cNvPr id="91" name=""/>
          <p:cNvSpPr/>
          <p:nvPr/>
        </p:nvSpPr>
        <p:spPr>
          <a:xfrm>
            <a:off x="983160" y="2209680"/>
            <a:ext cx="559080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gt; params=struct('tapers',[5 9],'pad',2,'Fs',1000,'fpass',[0 100],'err',0,'trialave',0);</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gt; whos param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Name         Size                   Bytes  Clas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arams       1x1                      808  struct array</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nd total is 14 elements using 808 byt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gt; param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ams =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apers: [5 9]</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ad: 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s: 1000</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pass: [0 100]</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rr: 0</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rialave: 0</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gt;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p:nvPr/>
        </p:nvSpPr>
        <p:spPr>
          <a:xfrm>
            <a:off x="1050120" y="1041480"/>
            <a:ext cx="4277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gt; [S,f]=mtspectrumc(detrend(datalfp(:,1)),params);</a:t>
            </a:r>
            <a:endParaRPr b="0" lang="en-US" sz="1400" spc="-1" strike="noStrike">
              <a:solidFill>
                <a:srgbClr val="000000"/>
              </a:solidFill>
              <a:latin typeface="Arial"/>
            </a:endParaRPr>
          </a:p>
        </p:txBody>
      </p:sp>
      <p:sp>
        <p:nvSpPr>
          <p:cNvPr id="93" name=""/>
          <p:cNvSpPr/>
          <p:nvPr/>
        </p:nvSpPr>
        <p:spPr>
          <a:xfrm>
            <a:off x="367560" y="493560"/>
            <a:ext cx="368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spectrum for the first trial</a:t>
            </a:r>
            <a:endParaRPr b="0" lang="en-US" sz="1800" spc="-1" strike="noStrike">
              <a:solidFill>
                <a:srgbClr val="000000"/>
              </a:solidFill>
              <a:latin typeface="Arial"/>
            </a:endParaRPr>
          </a:p>
        </p:txBody>
      </p:sp>
      <p:sp>
        <p:nvSpPr>
          <p:cNvPr id="94" name=""/>
          <p:cNvSpPr/>
          <p:nvPr/>
        </p:nvSpPr>
        <p:spPr>
          <a:xfrm>
            <a:off x="367920" y="2170080"/>
            <a:ext cx="222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error bars:</a:t>
            </a:r>
            <a:endParaRPr b="0" lang="en-US" sz="1800" spc="-1" strike="noStrike">
              <a:solidFill>
                <a:srgbClr val="000000"/>
              </a:solidFill>
              <a:latin typeface="Arial"/>
            </a:endParaRPr>
          </a:p>
        </p:txBody>
      </p:sp>
      <p:sp>
        <p:nvSpPr>
          <p:cNvPr id="95" name=""/>
          <p:cNvSpPr/>
          <p:nvPr/>
        </p:nvSpPr>
        <p:spPr>
          <a:xfrm>
            <a:off x="1289160" y="3022560"/>
            <a:ext cx="5392800" cy="103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gt;[S,f,Serr]=mtspectrumc(detrend(datalfp(:,1)),param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 Error using ==&gt; mtspectrumc</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When Serr is desired, err(1) has to be non-zer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gt;params.err=[1 0.05]; [S,f,Serr]=mtspectrumc(detrend(datalfp(:,1)),param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gt;plot(f,10*log10(S),f,10*log10(Serr(1,:),f,10*log10(Serr(2,:));</a:t>
            </a:r>
            <a:endParaRPr b="0" lang="en-US" sz="1200" spc="-1" strike="noStrike">
              <a:solidFill>
                <a:srgbClr val="000000"/>
              </a:solidFill>
              <a:latin typeface="Arial"/>
            </a:endParaRPr>
          </a:p>
        </p:txBody>
      </p:sp>
      <p:sp>
        <p:nvSpPr>
          <p:cNvPr id="96" name=""/>
          <p:cNvSpPr/>
          <p:nvPr/>
        </p:nvSpPr>
        <p:spPr>
          <a:xfrm>
            <a:off x="445680" y="4379760"/>
            <a:ext cx="5306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average spectrum for trials to direction 1:</a:t>
            </a:r>
            <a:endParaRPr b="0" lang="en-US" sz="1800" spc="-1" strike="noStrike">
              <a:solidFill>
                <a:srgbClr val="000000"/>
              </a:solidFill>
              <a:latin typeface="Arial"/>
            </a:endParaRPr>
          </a:p>
        </p:txBody>
      </p:sp>
      <p:sp>
        <p:nvSpPr>
          <p:cNvPr id="97" name=""/>
          <p:cNvSpPr/>
          <p:nvPr/>
        </p:nvSpPr>
        <p:spPr>
          <a:xfrm>
            <a:off x="2514600" y="4800600"/>
            <a:ext cx="457200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gt; indx=find(targets==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gt; datalfp1=datalfp(:,indx);</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gt; params.err=[1 0.05];params.trialave=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gt; [S1,f1,Serr1]=mtspectrumc(datalfp1,params);</a:t>
            </a:r>
            <a:endParaRPr b="0" lang="en-US" sz="1200" spc="-1" strike="noStrike">
              <a:solidFill>
                <a:srgbClr val="000000"/>
              </a:solidFill>
              <a:latin typeface="Arial"/>
            </a:endParaRPr>
          </a:p>
        </p:txBody>
      </p:sp>
      <p:sp>
        <p:nvSpPr>
          <p:cNvPr id="98" name=""/>
          <p:cNvSpPr/>
          <p:nvPr/>
        </p:nvSpPr>
        <p:spPr>
          <a:xfrm>
            <a:off x="524520" y="5751360"/>
            <a:ext cx="653292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other routine (similar routines available for coherence etc) –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gt;&gt;E=targoff(indx);</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gt;&gt;[S1,f1,Serr1]=mtspectrumtrigc(dlfp(:,1),E,param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914400" y="1600200"/>
            <a:ext cx="7315200" cy="341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name,pname]=uigetfil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val(['load ' pname '\' fnam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rams.tapers=[5 9]; params.pad=2; params.Fs=1000; params.fpass=[0 100]; params.trialave=1;params.err=0;</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vingwin=[0.5 0.1]; % duration of moving window used to evaluate spectrogram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n=[2 2]; % window around event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gnum=[2 3 6 9 8 7 4 1]; % figure numbers for particular direction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targ=0:7;</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targoff(find(targets==targ));</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sp,tsp,fsp,R]=mtspecgramtrigpt(dsp(1),E,win,movingwin,param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figure(1);</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ubplot(3,3,fignum(targ+1));</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imagesc(t,f,10*log10(S)'); axis xy; colorba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figure(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ubplot(3,3,fignum(targ+1));</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plot(t,R);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lfp,tlfp,flfp]=mtspecgramtrigc(dlfp(:,1),E,win,movingwin,param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figure(3);</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ubplot(3,3,fignum(targ+1));</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imagesc(t,f,10*log10(S)'); axis xy; colorba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d;</a:t>
            </a:r>
            <a:endParaRPr b="0" lang="en-US" sz="1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00" name=""/>
          <p:cNvSpPr/>
          <p:nvPr/>
        </p:nvSpPr>
        <p:spPr>
          <a:xfrm>
            <a:off x="844200" y="762120"/>
            <a:ext cx="7703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mple code to compute spectra of the LFP and spikes and the spike-fiel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herence (this is in file spectraMBL2005.m) for all eight directio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540720" y="380880"/>
            <a:ext cx="81072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mple  code to compute spike-field coherence for each of the eight direction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le spike-field-coherencyMBL2005.m)</a:t>
            </a:r>
            <a:endParaRPr b="0" lang="en-US" sz="1800" spc="-1" strike="noStrike">
              <a:solidFill>
                <a:srgbClr val="000000"/>
              </a:solidFill>
              <a:latin typeface="Arial"/>
            </a:endParaRPr>
          </a:p>
        </p:txBody>
      </p:sp>
      <p:sp>
        <p:nvSpPr>
          <p:cNvPr id="102" name=""/>
          <p:cNvSpPr/>
          <p:nvPr/>
        </p:nvSpPr>
        <p:spPr>
          <a:xfrm>
            <a:off x="762120" y="1600200"/>
            <a:ext cx="7924680" cy="2649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name,pname]=uigetfil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load ' pname '\' fnam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ams.tapers=[5 9]; params.pad=2; params.Fs=1000; params.fpass=[0 100]; params.trialave=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vingwin=[0.5 0.1]; % duration of moving window used to evaluate spectrogram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n=[2 2]; % window around event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gnum=[2 3 6 9 8 7 4 1]; % figure numbers for particular direction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arg=0:7;</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targoff(find(targets==targ));</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atasp=createdatamatpt(dsp(1),E,wi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atalfp=createdatamatc(dlfp(:,1),E,Fs,wi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phi,S12,S1,S2,t,f,zerosp]=cohgramcpt(datalfp,datasp,movingwin,params); % Note cohgramcpt does give you % spectra but not the errors on the spectr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ubplot(3,3,fignum(targ+1));imagesc(t,f,C'); axis xy; colorbar;</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d;</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161280" y="304920"/>
            <a:ext cx="8763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mple  code to compute spike-field coherence with error bars and confidence level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each of the eight directions (file significant-spike-field-coherencyMBL2005.m)</a:t>
            </a:r>
            <a:endParaRPr b="0" lang="en-US" sz="1800" spc="-1" strike="noStrike">
              <a:solidFill>
                <a:srgbClr val="000000"/>
              </a:solidFill>
              <a:latin typeface="Arial"/>
            </a:endParaRPr>
          </a:p>
        </p:txBody>
      </p:sp>
      <p:sp>
        <p:nvSpPr>
          <p:cNvPr id="104" name=""/>
          <p:cNvSpPr/>
          <p:nvPr/>
        </p:nvSpPr>
        <p:spPr>
          <a:xfrm>
            <a:off x="228600" y="1557360"/>
            <a:ext cx="8686800" cy="2466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name,pname]=uigetfil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load ' pname '\' fnam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ams.tapers=[5 9]; params.pad=2; params.Fs=1000; params.fpass=[0 100]; params.trialave=1;params.err=[2 0.05];</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vingwin=[0.5 0.1]; % duration of moving window used to evaluate spectrogram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n=[2 2]; % window around event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gnum=[2 3 6 9 8 7 4 1]; % figure numbers for particular direction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arg=0:7;</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targoff(find(targets==targ));</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atasp=createdatamatpt(dsp(1),E,wi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atalfp=createdatamatc(dlfp(:,1),E,Fs,wi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phi,S12,S1,S2,t,f,zerosp,confC,phierr,Cerr]=cohgramcpt(datalfp,datasp,movingwin,params);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ubplot(3,3,fignum(targ+1));plotsig(C,confC,t,f); axis xy; colorbar;</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d;</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3" name=""/>
          <p:cNvGrpSpPr/>
          <p:nvPr/>
        </p:nvGrpSpPr>
        <p:grpSpPr>
          <a:xfrm>
            <a:off x="1676520" y="533520"/>
            <a:ext cx="5485680" cy="3048840"/>
            <a:chOff x="1676520" y="533520"/>
            <a:chExt cx="5485680" cy="3048840"/>
          </a:xfrm>
        </p:grpSpPr>
        <p:cxnSp>
          <p:nvCxnSpPr>
            <p:cNvPr id="44" name="_s3092"/>
            <p:cNvCxnSpPr>
              <a:stCxn id="45" idx="1"/>
              <a:endCxn id="46" idx="2"/>
            </p:cNvCxnSpPr>
            <p:nvPr/>
          </p:nvCxnSpPr>
          <p:spPr>
            <a:xfrm rot="10800000">
              <a:off x="4418640" y="1294920"/>
              <a:ext cx="274680" cy="762840"/>
            </a:xfrm>
            <a:prstGeom prst="bentConnector2">
              <a:avLst/>
            </a:prstGeom>
            <a:ln w="28440">
              <a:solidFill>
                <a:srgbClr val="000000"/>
              </a:solidFill>
              <a:miter/>
            </a:ln>
          </p:spPr>
        </p:cxnSp>
        <p:cxnSp>
          <p:nvCxnSpPr>
            <p:cNvPr id="47" name="_s3090"/>
            <p:cNvCxnSpPr>
              <a:stCxn id="48" idx="3"/>
              <a:endCxn id="46" idx="2"/>
            </p:cNvCxnSpPr>
            <p:nvPr/>
          </p:nvCxnSpPr>
          <p:spPr>
            <a:xfrm flipV="1">
              <a:off x="4144680" y="1294920"/>
              <a:ext cx="274680" cy="762840"/>
            </a:xfrm>
            <a:prstGeom prst="bentConnector2">
              <a:avLst/>
            </a:prstGeom>
            <a:ln w="28440">
              <a:solidFill>
                <a:srgbClr val="000000"/>
              </a:solidFill>
              <a:miter/>
            </a:ln>
          </p:spPr>
        </p:cxnSp>
        <p:cxnSp>
          <p:nvCxnSpPr>
            <p:cNvPr id="49" name="_s3086"/>
            <p:cNvCxnSpPr>
              <a:stCxn id="50" idx="0"/>
              <a:endCxn id="46" idx="2"/>
            </p:cNvCxnSpPr>
            <p:nvPr/>
          </p:nvCxnSpPr>
          <p:spPr>
            <a:xfrm flipV="1" rot="16200000">
              <a:off x="4616280" y="1097280"/>
              <a:ext cx="1525320" cy="1920600"/>
            </a:xfrm>
            <a:prstGeom prst="bentConnector3">
              <a:avLst>
                <a:gd name="adj1" fmla="val 7483"/>
              </a:avLst>
            </a:prstGeom>
            <a:ln w="28440">
              <a:solidFill>
                <a:srgbClr val="000000"/>
              </a:solidFill>
              <a:miter/>
            </a:ln>
          </p:spPr>
        </p:cxnSp>
        <p:cxnSp>
          <p:nvCxnSpPr>
            <p:cNvPr id="51" name="_s3085"/>
            <p:cNvCxnSpPr>
              <a:stCxn id="52" idx="0"/>
              <a:endCxn id="46" idx="2"/>
            </p:cNvCxnSpPr>
            <p:nvPr/>
          </p:nvCxnSpPr>
          <p:spPr>
            <a:xfrm flipV="1">
              <a:off x="4419360" y="1294920"/>
              <a:ext cx="2160" cy="1525320"/>
            </a:xfrm>
            <a:prstGeom prst="bentConnector2">
              <a:avLst/>
            </a:prstGeom>
            <a:ln w="28440">
              <a:solidFill>
                <a:srgbClr val="000000"/>
              </a:solidFill>
              <a:miter/>
            </a:ln>
          </p:spPr>
        </p:cxnSp>
        <p:cxnSp>
          <p:nvCxnSpPr>
            <p:cNvPr id="53" name="_s3084"/>
            <p:cNvCxnSpPr>
              <a:stCxn id="54" idx="0"/>
              <a:endCxn id="46" idx="2"/>
            </p:cNvCxnSpPr>
            <p:nvPr/>
          </p:nvCxnSpPr>
          <p:spPr>
            <a:xfrm flipH="1" flipV="1" rot="5400000">
              <a:off x="2697480" y="1098000"/>
              <a:ext cx="1525320" cy="1919160"/>
            </a:xfrm>
            <a:prstGeom prst="bentConnector3">
              <a:avLst>
                <a:gd name="adj1" fmla="val 7483"/>
              </a:avLst>
            </a:prstGeom>
            <a:ln w="28440">
              <a:solidFill>
                <a:srgbClr val="000000"/>
              </a:solidFill>
              <a:miter/>
            </a:ln>
          </p:spPr>
        </p:cxnSp>
        <p:sp>
          <p:nvSpPr>
            <p:cNvPr id="46" name="_s3080"/>
            <p:cNvSpPr/>
            <p:nvPr/>
          </p:nvSpPr>
          <p:spPr>
            <a:xfrm>
              <a:off x="3596400" y="533520"/>
              <a:ext cx="1645560" cy="76212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a Analysis</a:t>
              </a:r>
              <a:endParaRPr b="0" lang="en-US" sz="2000" spc="-1" strike="noStrike">
                <a:solidFill>
                  <a:srgbClr val="000000"/>
                </a:solidFill>
                <a:latin typeface="Arial"/>
              </a:endParaRPr>
            </a:p>
          </p:txBody>
        </p:sp>
        <p:sp>
          <p:nvSpPr>
            <p:cNvPr id="54" name="_s3081"/>
            <p:cNvSpPr/>
            <p:nvPr/>
          </p:nvSpPr>
          <p:spPr>
            <a:xfrm>
              <a:off x="1676520" y="2820240"/>
              <a:ext cx="1645560" cy="76212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a:t>
              </a:r>
              <a:endParaRPr b="0" lang="en-US" sz="1600" spc="-1" strike="noStrike">
                <a:solidFill>
                  <a:srgbClr val="000000"/>
                </a:solidFill>
                <a:latin typeface="Arial"/>
              </a:endParaRPr>
            </a:p>
          </p:txBody>
        </p:sp>
        <p:sp>
          <p:nvSpPr>
            <p:cNvPr id="52" name="_s3082"/>
            <p:cNvSpPr/>
            <p:nvPr/>
          </p:nvSpPr>
          <p:spPr>
            <a:xfrm>
              <a:off x="3596400" y="2820240"/>
              <a:ext cx="1645560" cy="76212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alysis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sks</a:t>
              </a:r>
              <a:endParaRPr b="0" lang="en-US" sz="1600" spc="-1" strike="noStrike">
                <a:solidFill>
                  <a:srgbClr val="000000"/>
                </a:solidFill>
                <a:latin typeface="Arial"/>
              </a:endParaRPr>
            </a:p>
          </p:txBody>
        </p:sp>
        <p:sp>
          <p:nvSpPr>
            <p:cNvPr id="50" name="_s3083"/>
            <p:cNvSpPr/>
            <p:nvPr/>
          </p:nvSpPr>
          <p:spPr>
            <a:xfrm>
              <a:off x="5516640" y="2820240"/>
              <a:ext cx="1645560" cy="76212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alysis Methods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gorithms)</a:t>
              </a:r>
              <a:endParaRPr b="0" lang="en-US" sz="1600" spc="-1" strike="noStrike">
                <a:solidFill>
                  <a:srgbClr val="000000"/>
                </a:solidFill>
                <a:latin typeface="Arial"/>
              </a:endParaRPr>
            </a:p>
          </p:txBody>
        </p:sp>
        <p:sp>
          <p:nvSpPr>
            <p:cNvPr id="48" name="_s3089"/>
            <p:cNvSpPr/>
            <p:nvPr/>
          </p:nvSpPr>
          <p:spPr>
            <a:xfrm>
              <a:off x="2500920" y="1676880"/>
              <a:ext cx="1644120" cy="76212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perimental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formation</a:t>
              </a:r>
              <a:endParaRPr b="0" lang="en-US" sz="1400" spc="-1" strike="noStrike">
                <a:solidFill>
                  <a:srgbClr val="000000"/>
                </a:solidFill>
                <a:latin typeface="Arial"/>
              </a:endParaRPr>
            </a:p>
          </p:txBody>
        </p:sp>
        <p:sp>
          <p:nvSpPr>
            <p:cNvPr id="45" name="_s3091"/>
            <p:cNvSpPr/>
            <p:nvPr/>
          </p:nvSpPr>
          <p:spPr>
            <a:xfrm>
              <a:off x="4693680" y="1676880"/>
              <a:ext cx="1644120" cy="76212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asuremen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hysics</a:t>
              </a:r>
              <a:endParaRPr b="0" lang="en-US" sz="1400" spc="-1" strike="noStrike">
                <a:solidFill>
                  <a:srgbClr val="000000"/>
                </a:solidFill>
                <a:latin typeface="Arial"/>
              </a:endParaRPr>
            </a:p>
          </p:txBody>
        </p:sp>
      </p:grpSp>
      <p:sp>
        <p:nvSpPr>
          <p:cNvPr id="55" name=""/>
          <p:cNvSpPr/>
          <p:nvPr/>
        </p:nvSpPr>
        <p:spPr>
          <a:xfrm>
            <a:off x="617760" y="380880"/>
            <a:ext cx="2590200" cy="36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 Analysis Overview</a:t>
            </a:r>
            <a:endParaRPr b="0" lang="en-US" sz="1800" spc="-1" strike="noStrike">
              <a:solidFill>
                <a:srgbClr val="000000"/>
              </a:solidFill>
              <a:latin typeface="Arial"/>
            </a:endParaRPr>
          </a:p>
        </p:txBody>
      </p:sp>
      <p:sp>
        <p:nvSpPr>
          <p:cNvPr id="56" name=""/>
          <p:cNvSpPr/>
          <p:nvPr/>
        </p:nvSpPr>
        <p:spPr>
          <a:xfrm>
            <a:off x="541080" y="3809880"/>
            <a:ext cx="7674120" cy="283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erimental Information – contains details of the experime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asurement Physics – contains information about the underlying physic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g. sources of noise, type of sign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 – actual data to be analysed (including metadat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tasks – problems to be solv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methods – algorithms used to solve the problem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468720" y="304920"/>
            <a:ext cx="6939720" cy="36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ronux routines for continuous valued data classified by task type</a:t>
            </a:r>
            <a:endParaRPr b="0" lang="en-US" sz="1800" spc="-1" strike="noStrike">
              <a:solidFill>
                <a:srgbClr val="000000"/>
              </a:solidFill>
              <a:latin typeface="Arial"/>
            </a:endParaRPr>
          </a:p>
        </p:txBody>
      </p:sp>
      <p:sp>
        <p:nvSpPr>
          <p:cNvPr id="106" name=""/>
          <p:cNvSpPr/>
          <p:nvPr/>
        </p:nvSpPr>
        <p:spPr>
          <a:xfrm>
            <a:off x="430920" y="1255680"/>
            <a:ext cx="640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ditioning – </a:t>
            </a:r>
            <a:r>
              <a:rPr b="0" lang="en-US" sz="1200" spc="-1" strike="noStrike">
                <a:solidFill>
                  <a:srgbClr val="000000"/>
                </a:solidFill>
                <a:latin typeface="Arial"/>
              </a:rPr>
              <a:t>createdatamatc,extractdatac,binspikes,rmlinesc,locdetrend,spsvd,pca</a:t>
            </a:r>
            <a:endParaRPr b="0" lang="en-US" sz="1200" spc="-1" strike="noStrike">
              <a:solidFill>
                <a:srgbClr val="000000"/>
              </a:solidFill>
              <a:latin typeface="Arial"/>
            </a:endParaRPr>
          </a:p>
        </p:txBody>
      </p:sp>
      <p:sp>
        <p:nvSpPr>
          <p:cNvPr id="107" name=""/>
          <p:cNvSpPr/>
          <p:nvPr/>
        </p:nvSpPr>
        <p:spPr>
          <a:xfrm>
            <a:off x="453240" y="2057400"/>
            <a:ext cx="3749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rst moment – </a:t>
            </a:r>
            <a:r>
              <a:rPr b="0" lang="en-US" sz="1200" spc="-1" strike="noStrike">
                <a:solidFill>
                  <a:srgbClr val="000000"/>
                </a:solidFill>
                <a:latin typeface="Arial"/>
              </a:rPr>
              <a:t>evoked,psth,isi,sta,staogram.</a:t>
            </a:r>
            <a:endParaRPr b="0" lang="en-US" sz="1200" spc="-1" strike="noStrike">
              <a:solidFill>
                <a:srgbClr val="000000"/>
              </a:solidFill>
              <a:latin typeface="Arial"/>
            </a:endParaRPr>
          </a:p>
        </p:txBody>
      </p:sp>
      <p:sp>
        <p:nvSpPr>
          <p:cNvPr id="108" name=""/>
          <p:cNvSpPr/>
          <p:nvPr/>
        </p:nvSpPr>
        <p:spPr>
          <a:xfrm>
            <a:off x="609480" y="2819520"/>
            <a:ext cx="184320" cy="274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
          <p:cNvSpPr/>
          <p:nvPr/>
        </p:nvSpPr>
        <p:spPr>
          <a:xfrm>
            <a:off x="369000" y="2743200"/>
            <a:ext cx="805068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Moment – </a:t>
            </a:r>
            <a:r>
              <a:rPr b="0" lang="en-US" sz="1200" spc="-1" strike="noStrike">
                <a:solidFill>
                  <a:srgbClr val="000000"/>
                </a:solidFill>
                <a:latin typeface="Arial"/>
              </a:rPr>
              <a:t>mtspectrumc,mtspecgramc,mtspectrumtrigc,mtspecgramtrigc,coherencyc,cohgramc,</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herencycpb,coherencycpt,cohgramcpb,cohgramcpt, mtspectrumsegc,coherencysegc,</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hmatc, crossSpecM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10" name=""/>
          <p:cNvSpPr/>
          <p:nvPr/>
        </p:nvSpPr>
        <p:spPr>
          <a:xfrm>
            <a:off x="422280" y="4605480"/>
            <a:ext cx="6336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ilar routines available for point process data (both binned spike counts and spike time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1597680" y="380880"/>
            <a:ext cx="6028200" cy="1252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alysis protocol</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eptualization/organization of the analysis tasks</a:t>
            </a:r>
            <a:endParaRPr b="0" lang="en-US" sz="2000" spc="-1" strike="noStrike">
              <a:solidFill>
                <a:srgbClr val="000000"/>
              </a:solidFill>
              <a:latin typeface="Arial"/>
            </a:endParaRPr>
          </a:p>
        </p:txBody>
      </p:sp>
      <p:pic>
        <p:nvPicPr>
          <p:cNvPr id="58" name="" descr=""/>
          <p:cNvPicPr/>
          <p:nvPr/>
        </p:nvPicPr>
        <p:blipFill>
          <a:blip r:embed="rId1"/>
          <a:stretch/>
        </p:blipFill>
        <p:spPr>
          <a:xfrm>
            <a:off x="304920" y="2057400"/>
            <a:ext cx="8229600" cy="2971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685800" y="762120"/>
            <a:ext cx="7924680" cy="2349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Not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ice of tasks and the implementation is determined by the nature of the experiment (Experimental information and domain specific knowledge) i.e. the nature of the data. But there are also common themes.</a:t>
            </a:r>
            <a:endParaRPr b="0" lang="en-US" sz="2400" spc="-1" strike="noStrike">
              <a:solidFill>
                <a:srgbClr val="000000"/>
              </a:solidFill>
              <a:latin typeface="Arial"/>
            </a:endParaRPr>
          </a:p>
        </p:txBody>
      </p:sp>
      <p:sp>
        <p:nvSpPr>
          <p:cNvPr id="60" name=""/>
          <p:cNvSpPr/>
          <p:nvPr/>
        </p:nvSpPr>
        <p:spPr>
          <a:xfrm>
            <a:off x="457200" y="3505320"/>
            <a:ext cx="79246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Example differences: Artifacts</a:t>
            </a:r>
            <a:r>
              <a:rPr b="0" lang="en-US"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yeblinks, eye-ball movement, heart-beat, respiration, miscellaneous muscle activity contaminates EEG/MEG and Optical imaging data.</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imilarly, fmri data analysis needs its own set of conditioning steps</a:t>
            </a:r>
            <a:endParaRPr b="0" lang="en-US" sz="1800" spc="-1" strike="noStrike">
              <a:solidFill>
                <a:srgbClr val="000000"/>
              </a:solidFill>
              <a:latin typeface="Arial"/>
            </a:endParaRPr>
          </a:p>
        </p:txBody>
      </p:sp>
      <p:sp>
        <p:nvSpPr>
          <p:cNvPr id="61" name=""/>
          <p:cNvSpPr/>
          <p:nvPr/>
        </p:nvSpPr>
        <p:spPr>
          <a:xfrm>
            <a:off x="457200" y="4952880"/>
            <a:ext cx="748332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mmon theme:</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ll data under consideration are typically time-series, so that methods to characterize the structure in the data are common.</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us, 60 Hz line noise potentially affects all electrical/magnetic recordings and the F-test for lines is a method for removing this nois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793440" y="1143000"/>
            <a:ext cx="7854480" cy="4301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ectrophysiological data types</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road-band voltage traces (0-30 kHz, say)</a:t>
            </a:r>
            <a:endParaRPr b="0" lang="en-US" sz="20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ultiunit activity voltage traces (&gt; 1 kHz, say)</a:t>
            </a:r>
            <a:endParaRPr b="0" lang="en-US" sz="20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Local field potential (voltage traces) (&lt;300 Hz, say)</a:t>
            </a:r>
            <a:endParaRPr b="0" lang="en-US" sz="20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solated single unit activity (spike times)</a:t>
            </a:r>
            <a:endParaRPr b="0" lang="en-US" sz="20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havioral traces/events</a:t>
            </a:r>
            <a:endParaRPr b="0" lang="en-US" sz="20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ummary of experimental protocol, brain areas of interest </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d other miscellaneous information</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e that 2,3,4 can be derived from 1. 1-3 are continuous; 4 is</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point process. 5 can be either continuous or point process,</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ing on the experimen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1219320" y="1800360"/>
            <a:ext cx="6553080" cy="5057640"/>
          </a:xfrm>
          <a:prstGeom prst="rect">
            <a:avLst/>
          </a:prstGeom>
          <a:ln w="0">
            <a:noFill/>
          </a:ln>
        </p:spPr>
      </p:pic>
      <p:sp>
        <p:nvSpPr>
          <p:cNvPr id="64" name=""/>
          <p:cNvSpPr/>
          <p:nvPr/>
        </p:nvSpPr>
        <p:spPr>
          <a:xfrm>
            <a:off x="1369440" y="2057400"/>
            <a:ext cx="1095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Data type 1</a:t>
            </a:r>
            <a:endParaRPr b="0" lang="en-US" sz="1400" spc="-1" strike="noStrike">
              <a:solidFill>
                <a:srgbClr val="000000"/>
              </a:solidFill>
              <a:latin typeface="Arial"/>
            </a:endParaRPr>
          </a:p>
        </p:txBody>
      </p:sp>
      <p:sp>
        <p:nvSpPr>
          <p:cNvPr id="65" name=""/>
          <p:cNvSpPr/>
          <p:nvPr/>
        </p:nvSpPr>
        <p:spPr>
          <a:xfrm>
            <a:off x="830160" y="293760"/>
            <a:ext cx="2160360" cy="5205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ditioning</a:t>
            </a:r>
            <a:endParaRPr b="0" lang="en-US" sz="2800" spc="-1" strike="noStrike">
              <a:solidFill>
                <a:srgbClr val="000000"/>
              </a:solidFill>
              <a:latin typeface="Arial"/>
            </a:endParaRPr>
          </a:p>
        </p:txBody>
      </p:sp>
      <p:sp>
        <p:nvSpPr>
          <p:cNvPr id="66" name=""/>
          <p:cNvSpPr/>
          <p:nvPr/>
        </p:nvSpPr>
        <p:spPr>
          <a:xfrm>
            <a:off x="0" y="3962520"/>
            <a:ext cx="12193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Data type 4</a:t>
            </a:r>
            <a:endParaRPr b="0" lang="en-US" sz="1400" spc="-1" strike="noStrike">
              <a:solidFill>
                <a:srgbClr val="000000"/>
              </a:solidFill>
              <a:latin typeface="Arial"/>
            </a:endParaRPr>
          </a:p>
        </p:txBody>
      </p:sp>
      <p:sp>
        <p:nvSpPr>
          <p:cNvPr id="67" name=""/>
          <p:cNvSpPr/>
          <p:nvPr/>
        </p:nvSpPr>
        <p:spPr>
          <a:xfrm>
            <a:off x="7846560" y="3962520"/>
            <a:ext cx="1095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Data type 2</a:t>
            </a:r>
            <a:endParaRPr b="0" lang="en-US" sz="1400" spc="-1" strike="noStrike">
              <a:solidFill>
                <a:srgbClr val="000000"/>
              </a:solidFill>
              <a:latin typeface="Arial"/>
            </a:endParaRPr>
          </a:p>
        </p:txBody>
      </p:sp>
      <p:sp>
        <p:nvSpPr>
          <p:cNvPr id="68" name=""/>
          <p:cNvSpPr/>
          <p:nvPr/>
        </p:nvSpPr>
        <p:spPr>
          <a:xfrm>
            <a:off x="7010280" y="6248520"/>
            <a:ext cx="10908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Data type 3</a:t>
            </a:r>
            <a:endParaRPr b="0" lang="en-US" sz="1400" spc="-1" strike="noStrike">
              <a:solidFill>
                <a:srgbClr val="000000"/>
              </a:solidFill>
              <a:latin typeface="Arial"/>
            </a:endParaRPr>
          </a:p>
        </p:txBody>
      </p:sp>
      <p:sp>
        <p:nvSpPr>
          <p:cNvPr id="69" name=""/>
          <p:cNvSpPr/>
          <p:nvPr/>
        </p:nvSpPr>
        <p:spPr>
          <a:xfrm>
            <a:off x="765360" y="1066680"/>
            <a:ext cx="1752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Data Reduction</a:t>
            </a:r>
            <a:endParaRPr b="0" lang="en-US" sz="1800" spc="-1" strike="noStrike">
              <a:solidFill>
                <a:srgbClr val="000000"/>
              </a:solidFill>
              <a:latin typeface="Arial"/>
            </a:endParaRPr>
          </a:p>
        </p:txBody>
      </p:sp>
      <p:sp>
        <p:nvSpPr>
          <p:cNvPr id="70" name=""/>
          <p:cNvSpPr/>
          <p:nvPr/>
        </p:nvSpPr>
        <p:spPr>
          <a:xfrm>
            <a:off x="152280" y="5257800"/>
            <a:ext cx="3353040" cy="1159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a reduction also includes various schemes of dimensionality reduction (e.g. PCA) used for multivariate data; These are discussed in the analysis of optical imaging dat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457200" y="5791320"/>
            <a:ext cx="7254720" cy="763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Data Rearrangement</a:t>
            </a:r>
            <a:r>
              <a:rPr b="0" lang="en-US" sz="2800" spc="-1" strike="noStrike">
                <a:solidFill>
                  <a:srgbClr val="000000"/>
                </a:solidFill>
                <a:latin typeface="Arial"/>
              </a:rPr>
              <a:t> – </a:t>
            </a:r>
            <a:r>
              <a:rPr b="0" lang="en-US" sz="1600" spc="-1" strike="noStrike">
                <a:solidFill>
                  <a:srgbClr val="000000"/>
                </a:solidFill>
                <a:latin typeface="Arial"/>
              </a:rPr>
              <a:t>arrange data in analysis blocks according to some experimentally motivated criterion e.g. group all trials to conditions A and B.</a:t>
            </a:r>
            <a:endParaRPr b="0" lang="en-US" sz="1600" spc="-1" strike="noStrike">
              <a:solidFill>
                <a:srgbClr val="000000"/>
              </a:solidFill>
              <a:latin typeface="Arial"/>
            </a:endParaRPr>
          </a:p>
        </p:txBody>
      </p:sp>
      <p:pic>
        <p:nvPicPr>
          <p:cNvPr id="72" name="" descr=""/>
          <p:cNvPicPr/>
          <p:nvPr/>
        </p:nvPicPr>
        <p:blipFill>
          <a:blip r:embed="rId1"/>
          <a:stretch/>
        </p:blipFill>
        <p:spPr>
          <a:xfrm>
            <a:off x="2286000" y="609480"/>
            <a:ext cx="4343400" cy="4381560"/>
          </a:xfrm>
          <a:prstGeom prst="rect">
            <a:avLst/>
          </a:prstGeom>
          <a:ln w="0">
            <a:noFill/>
          </a:ln>
        </p:spPr>
      </p:pic>
      <p:sp>
        <p:nvSpPr>
          <p:cNvPr id="73" name=""/>
          <p:cNvSpPr/>
          <p:nvPr/>
        </p:nvSpPr>
        <p:spPr>
          <a:xfrm>
            <a:off x="533520" y="5029200"/>
            <a:ext cx="786420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that electrophysiological recordings do not suffer from as many artefacts as other modalities (this knowledge is part. So artefact removal is simpler here than (say) in MEG (to be discussed later)</a:t>
            </a:r>
            <a:endParaRPr b="0" lang="en-US" sz="1400" spc="-1" strike="noStrike">
              <a:solidFill>
                <a:srgbClr val="000000"/>
              </a:solidFill>
              <a:latin typeface="Arial"/>
            </a:endParaRPr>
          </a:p>
        </p:txBody>
      </p:sp>
      <p:sp>
        <p:nvSpPr>
          <p:cNvPr id="74" name=""/>
          <p:cNvSpPr/>
          <p:nvPr/>
        </p:nvSpPr>
        <p:spPr>
          <a:xfrm>
            <a:off x="613800" y="380880"/>
            <a:ext cx="3617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Artefact identification and remov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
          <p:cNvSpPr/>
          <p:nvPr/>
        </p:nvSpPr>
        <p:spPr>
          <a:xfrm>
            <a:off x="539280" y="457200"/>
            <a:ext cx="5685480" cy="5205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loratory Analysis and Inference</a:t>
            </a:r>
            <a:endParaRPr b="0" lang="en-US" sz="2800" spc="-1" strike="noStrike">
              <a:solidFill>
                <a:srgbClr val="000000"/>
              </a:solidFill>
              <a:latin typeface="Arial"/>
            </a:endParaRPr>
          </a:p>
        </p:txBody>
      </p:sp>
      <p:sp>
        <p:nvSpPr>
          <p:cNvPr id="76" name=""/>
          <p:cNvSpPr/>
          <p:nvPr/>
        </p:nvSpPr>
        <p:spPr>
          <a:xfrm>
            <a:off x="533520" y="1295280"/>
            <a:ext cx="8001000" cy="243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ploratory analysis  and inference depend greatly on the nature of the experiment, and it is not easy to provide an exhaustive description of the protocol. We consider here one typical experimental setup: a finite number of randomly interleaved experimental conditions and recordings consisting of broad-band data along with associated behavioral markers. Assume that at the end of the conditioning steps discussed previously, the broad-band data has been converted to local field potentials, that all artifacts have been removed, and data has been rearranged according to trial condition. Then, an appropriate goal of the exploratory analysis of this dataset is (i) to characterize the spiking and local field potential activity for the different conditions, (ii) to characterize the correlations between spiking and local field potential activity for these conditions. (iii) to check whether the spikes, local fields and the spike-field correlations show apparent condition dependence (frame hypotheses).</a:t>
            </a:r>
            <a:endParaRPr b="0" lang="en-US" sz="1400" spc="-1" strike="noStrike">
              <a:solidFill>
                <a:srgbClr val="000000"/>
              </a:solidFill>
              <a:latin typeface="Arial"/>
            </a:endParaRPr>
          </a:p>
        </p:txBody>
      </p:sp>
      <p:sp>
        <p:nvSpPr>
          <p:cNvPr id="77" name=""/>
          <p:cNvSpPr/>
          <p:nvPr/>
        </p:nvSpPr>
        <p:spPr>
          <a:xfrm>
            <a:off x="534960" y="3809880"/>
            <a:ext cx="8410320" cy="2650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Exploratory analyse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Distributional characterizat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irst moment computations: e.g. spike rates, evoked LFP, spike-triggered LFP</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econd moment computations: e.g. spike and LFP spectra, and spike-field coherence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or the different conditions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Inferenc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Functional relationship with external quantitie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200" spc="-1" strike="noStrike">
                <a:solidFill>
                  <a:srgbClr val="000000"/>
                </a:solidFill>
                <a:latin typeface="Arial"/>
              </a:rPr>
              <a:t>Tuning curves: e.g. tuning of the spike rate, tuning of the LFP spectral power in a particular frequency.</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gression: relating observed activity to continuous behavioral information (if available) e.g. Rat in maz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400" spc="-1" strike="noStrike">
                <a:solidFill>
                  <a:srgbClr val="000000"/>
                </a:solidFill>
                <a:latin typeface="Arial"/>
              </a:rPr>
              <a:t>Hypothesis testing</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g. Spike rates differ significantly between a particular pair of conditions. LFP power in a particular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requency band differs between the different condition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a:off x="685800" y="1295280"/>
            <a:ext cx="7864560" cy="298692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 electrophysiology data set:</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In the file LIPdata.mat, you are provided with the local field potential and spikes recorded from the same site. These recordings are taken from Pesaran et al (2002) and were acquired from the lateral intraparietal area (LIP) of macaque monkeys performing a memory guided saccade task. The task was as follows:  At the beginning of the experiment the monkey fixated on a spot of light at the center of the screen. Once fixation was acquired, a peripheral target was flashed (for 100 ms) at one of eight locations (see Figure). The monkey was required to stay fixated at the central spot for a delay period (of around 1100ms). At the end of the delay, the central spot was turned off. This was the signal to the monkey to make a saccade to the remembered location of the target. Assume that it is known from previous work in this area of the brain that the spike rates show directional tuning i.e. the average spike rate is highest for one of the eight directions and least for the opposite direc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03T16:41:18Z</dcterms:created>
  <dc:creator>x</dc:creator>
  <dc:description/>
  <dc:language>en-US</dc:language>
  <cp:lastModifiedBy>x</cp:lastModifiedBy>
  <dcterms:modified xsi:type="dcterms:W3CDTF">2005-08-17T21:32:01Z</dcterms:modified>
  <cp:revision>29</cp:revision>
  <dc:subject/>
  <dc:title>Analysis Protocols</dc:title>
</cp:coreProperties>
</file>